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1CD-0E13-4F8D-BC53-EEE1CAF3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F15-C840-4DA6-961B-9B2BBD3D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576-F8A5-4F68-BEF7-79931CF6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784-50B4-4860-827B-0F54095F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EE40-B4BA-43EE-9ADF-1DEEA66E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7CBF-DD5C-4341-9F6B-E6F482FD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F6BE-67A5-4893-8809-3FA3E06E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234C-4701-42B9-9663-2319AAB4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79B8-48A4-4EB1-9A57-13F32426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BA5B-3C4C-43E2-AF6F-B86C45F5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57FD-94F4-46F0-A0F4-462C0AF7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F1A-ABB7-4679-981B-4D44AA30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380D-480B-495E-A0FB-548DE801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DA11-80D4-4701-A675-18FFA608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4798-D7C6-494E-A59C-EEC74851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CBFF-C7FF-4E7B-9DB8-91F22F3E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5EF8-6F90-4C14-87EC-5211AD9C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B0F-87B8-41CB-9F0C-3AE62D7E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EB9-FD26-4351-9589-C930BD9D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02A-A980-4F90-9AEB-34289EE1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C48-C9E2-4CC0-AAEB-0A3035F4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E4C-2B59-4560-94DE-47231876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699-339B-4278-83B3-F701F73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20C-17A9-4335-BA12-0A81EB01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5B00-5A74-4005-89DF-262F4286218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EDD0-8F34-4611-B8C4-62C10601C00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K – 5 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PSM/RtI Seminar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November 8, 2010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Intensity and Nature of Instruction Resembles Specially Designed Instruction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ssue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How are Changes for 2010-11 Affecting the Process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Goal-Setting: When and why would it be appropriate to use: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HCS Growth Rat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HCS Accelerated Growth Rate (X 1.5 or 2.0)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ell-Below Proficiency Standard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ficiency Standard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ther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ecision-Making Rules: What factors are involved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to make an intervention chang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to reconsider hypothesi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to change to goal and aimlin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Electronic Graphing vs. Paper: Does the type of graph affect decision-making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y or why not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yes, what solutions can we find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Changes to Hypotheses/Interven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ademic Entitlement Crite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parison with Pe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ell Below Proficient Standar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wth Rate Issu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udent growth rate similar to growth rate at Well Below Profici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4:58Z</dcterms:created>
  <dc:creator>Nancy Kreykenbohm</dc:creator>
  <dc:description/>
  <dc:language>en-US</dc:language>
  <cp:lastModifiedBy>Nancy Kreykenbohm</cp:lastModifiedBy>
  <dcterms:modified xsi:type="dcterms:W3CDTF">2010-11-08T17:41:07Z</dcterms:modified>
  <cp:revision>2</cp:revision>
  <dc:subject/>
  <dc:title>K – 5  PSM/RtI Seminar </dc:title>
</cp:coreProperties>
</file>